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545-B9A9-46A8-8F0A-B94FA31B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676-86F7-4E92-9EA3-7AB8541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258-BEDD-4DEC-86EB-2C67F92B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02C-24FC-41AF-9F04-7FFF3182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D51-74A6-4C0D-8CA1-56531FC8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C9D-5AD9-4526-B5F8-906A329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3B9-01A6-4F8F-AE68-B5F5419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CFE-2BA0-4A6E-8011-C4C11E4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B95-5841-43F6-8AAA-83E2C172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B10-D1A2-4E21-BE31-3080778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600-296F-4164-80AF-61E95CF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7A8-A8F2-447F-870C-6DBD6E0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8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20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20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589b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89b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589b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43E1-F51B-45CE-A06E-3A64D9D05431}" type="slidenum">
              <a:rPr b="0" lang="en-US" sz="1200" spc="-1" strike="noStrike">
                <a:solidFill>
                  <a:srgbClr val="a589b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search/?l=cc&amp;q=little+girl+eating+cookies&amp;m=tex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3535"/>
                </a:solidFill>
                <a:latin typeface="Calibri"/>
              </a:rPr>
              <a:t>This is just to say by </a:t>
            </a:r>
            <a:br>
              <a:rPr sz="4400"/>
            </a:br>
            <a:r>
              <a:rPr b="0" lang="en-US" sz="4400" spc="-1" strike="noStrike">
                <a:solidFill>
                  <a:srgbClr val="353535"/>
                </a:solidFill>
                <a:latin typeface="Calibri"/>
              </a:rPr>
              <a:t>William Carlos Williams</a:t>
            </a: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535"/>
                </a:solidFill>
                <a:latin typeface="Calibri"/>
              </a:rPr>
              <a:t>Melissa and Lauren’s version</a:t>
            </a:r>
            <a:r>
              <a:rPr b="0" lang="en-US" sz="3200" spc="-1" strike="noStrike">
                <a:solidFill>
                  <a:srgbClr val="a589b2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838080" y="3200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I have stolen the cookies that were in the cookie jar</a:t>
            </a:r>
            <a:endParaRPr b="0" lang="en-US" sz="60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228600"/>
            <a:ext cx="312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Which You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were Probably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going To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put In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your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lunch box.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457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2008c"/>
                </a:solidFill>
                <a:latin typeface="Calibri"/>
              </a:rPr>
              <a:t>Forgive me. </a:t>
            </a:r>
            <a:endParaRPr b="0" lang="en-US" sz="54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2008c"/>
                </a:solidFill>
                <a:latin typeface="Calibri"/>
              </a:rPr>
              <a:t>I was hungry, and they hit the spot.</a:t>
            </a:r>
            <a:endParaRPr b="0" lang="en-US" sz="54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62120" y="533520"/>
            <a:ext cx="7924680" cy="703440"/>
          </a:xfrm>
          <a:prstGeom prst="rect">
            <a:avLst/>
          </a:prstGeom>
          <a:solidFill>
            <a:srgbClr val="d621ff"/>
          </a:solidFill>
          <a:ln w="9360">
            <a:solidFill>
              <a:srgbClr val="d62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f2f2f2"/>
                </a:solidFill>
                <a:latin typeface="Arial Rounded MT Bold"/>
              </a:rPr>
              <a:t>Works (ex)Cited!</a:t>
            </a:r>
            <a:endParaRPr b="0" lang="en-US" sz="40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He@rt.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In the Cookie Jar. 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 Digital image. &lt;http://www.flickr.com/search/?q=cookie+jar&amp;l=cc&amp;ct=0&amp;page=4&gt;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Amanky 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Laptop_Lunchbox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 2007.09.17. Digital image. http://www.flickr.com/search/?q=lunch+box&amp;l=cc&amp;ct=0&amp;page=10 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omniNATE.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I am Not Eating 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Dough! Digital image. </a:t>
            </a:r>
            <a:r>
              <a:rPr b="0" lang="en-US" sz="30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www.flickr.com/search/?l=cc&amp;q=little+girl+eating+cookies&amp;m=text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.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55:48Z</dcterms:created>
  <dc:creator>Admin</dc:creator>
  <dc:description/>
  <dc:language>en-US</dc:language>
  <cp:lastModifiedBy>cyndi.vander_ven</cp:lastModifiedBy>
  <dcterms:modified xsi:type="dcterms:W3CDTF">2009-04-17T13:26:12Z</dcterms:modified>
  <cp:revision>6</cp:revision>
  <dc:subject/>
  <dc:title>Slide 1</dc:title>
</cp:coreProperties>
</file>